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B5B-9639-4227-ABB6-C0A1B453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8A9-72A2-47AB-8CF5-1FA0A8C9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A94-3301-42CF-A03A-C26834B2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EEB-E40E-4338-88BB-D97F1F82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A77-5269-4E7C-A34D-3F0A5AA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98A-1645-4FD7-BBA6-3D4E9CCF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805-B842-43D3-BFD5-6B3E57BE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CAF-E6C2-4946-914B-74E36E0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19F-284A-4471-8B57-E8EFA7B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A60-052D-460A-A71B-90BAC64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EB1-1854-4659-B77A-3F2D1A6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DA7-D5D1-40BD-B498-B67A543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4670-985E-40BE-BDC0-CBDF329B4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BF7-8EDE-46A7-8565-649F55D0387C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6"/>
          <p:cNvSpPr/>
          <p:nvPr/>
        </p:nvSpPr>
        <p:spPr>
          <a:xfrm>
            <a:off x="130320" y="98280"/>
            <a:ext cx="8883360" cy="6661440"/>
          </a:xfrm>
          <a:prstGeom prst="roundRect">
            <a:avLst>
              <a:gd name="adj" fmla="val 2898"/>
            </a:avLst>
          </a:prstGeom>
          <a:noFill/>
          <a:ln w="381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123560"/>
            <a:ext cx="838224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1302"/>
                </a:solidFill>
                <a:latin typeface="Calibri"/>
              </a:rPr>
              <a:t>Identification and Representation of Homotopy Classes of Trajectories for Search-based Path Planning in 3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Subhrajit Bhattachar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Maxim Likhach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Vijay Kum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2C17-8941-4440-9964-9C221F61CEAB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1563840" y="5943600"/>
            <a:ext cx="2017440" cy="646200"/>
            <a:chOff x="1563840" y="5943600"/>
            <a:chExt cx="2017440" cy="646200"/>
          </a:xfrm>
        </p:grpSpPr>
        <p:grpSp>
          <p:nvGrpSpPr>
            <p:cNvPr id="46" name="Group 267"/>
            <p:cNvGrpSpPr/>
            <p:nvPr/>
          </p:nvGrpSpPr>
          <p:grpSpPr>
            <a:xfrm>
              <a:off x="1638720" y="5943600"/>
              <a:ext cx="1942560" cy="642240"/>
              <a:chOff x="1638720" y="5943600"/>
              <a:chExt cx="1942560" cy="642240"/>
            </a:xfrm>
          </p:grpSpPr>
          <p:pic>
            <p:nvPicPr>
              <p:cNvPr id="4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38720" y="6042960"/>
                <a:ext cx="419400" cy="4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Box 8"/>
              <p:cNvSpPr/>
              <p:nvPr/>
            </p:nvSpPr>
            <p:spPr>
              <a:xfrm>
                <a:off x="1972440" y="5943600"/>
                <a:ext cx="160884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niversity of</a:t>
                </a:r>
                <a:br>
                  <a:rPr sz="16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ennsylvan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6"/>
            <p:cNvSpPr/>
            <p:nvPr/>
          </p:nvSpPr>
          <p:spPr>
            <a:xfrm>
              <a:off x="1563840" y="5972040"/>
              <a:ext cx="1927080" cy="6177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9"/>
          <p:cNvGrpSpPr/>
          <p:nvPr/>
        </p:nvGrpSpPr>
        <p:grpSpPr>
          <a:xfrm>
            <a:off x="152280" y="5862600"/>
            <a:ext cx="1554120" cy="764640"/>
            <a:chOff x="152280" y="5862600"/>
            <a:chExt cx="1554120" cy="764640"/>
          </a:xfrm>
        </p:grpSpPr>
        <p:grpSp>
          <p:nvGrpSpPr>
            <p:cNvPr id="51" name="Group 272"/>
            <p:cNvGrpSpPr/>
            <p:nvPr/>
          </p:nvGrpSpPr>
          <p:grpSpPr>
            <a:xfrm>
              <a:off x="152280" y="5862600"/>
              <a:ext cx="1554120" cy="764640"/>
              <a:chOff x="152280" y="5862600"/>
              <a:chExt cx="1554120" cy="764640"/>
            </a:xfrm>
          </p:grpSpPr>
          <p:sp>
            <p:nvSpPr>
              <p:cNvPr id="52" name="TextBox 12"/>
              <p:cNvSpPr/>
              <p:nvPr/>
            </p:nvSpPr>
            <p:spPr>
              <a:xfrm>
                <a:off x="152280" y="5862600"/>
                <a:ext cx="1554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1f497d"/>
                    </a:solidFill>
                    <a:latin typeface="Garamond"/>
                  </a:rPr>
                  <a:t>GRAS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Box 13"/>
              <p:cNvSpPr/>
              <p:nvPr/>
            </p:nvSpPr>
            <p:spPr>
              <a:xfrm>
                <a:off x="214560" y="6167520"/>
                <a:ext cx="149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f497d"/>
                    </a:solidFill>
                    <a:latin typeface="Garamond"/>
                  </a:rPr>
                  <a:t>L</a:t>
                </a:r>
                <a:r>
                  <a:rPr b="0" lang="en-US" sz="1400" spc="-1" strike="noStrike">
                    <a:solidFill>
                      <a:srgbClr val="1f497d"/>
                    </a:solidFill>
                    <a:latin typeface="Garamond"/>
                  </a:rPr>
                  <a:t>ABORATO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11"/>
            <p:cNvSpPr/>
            <p:nvPr/>
          </p:nvSpPr>
          <p:spPr>
            <a:xfrm>
              <a:off x="182160" y="5938560"/>
              <a:ext cx="14176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4876920" y="6019920"/>
            <a:ext cx="4038480" cy="609480"/>
            <a:chOff x="4876920" y="6019920"/>
            <a:chExt cx="4038480" cy="609480"/>
          </a:xfrm>
        </p:grpSpPr>
        <p:pic>
          <p:nvPicPr>
            <p:cNvPr id="56" name="Picture 17" descr=""/>
            <p:cNvPicPr/>
            <p:nvPr/>
          </p:nvPicPr>
          <p:blipFill>
            <a:blip r:embed="rId2"/>
            <a:stretch/>
          </p:blipFill>
          <p:spPr>
            <a:xfrm>
              <a:off x="5257800" y="6172200"/>
              <a:ext cx="4093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"/>
            <p:cNvPicPr/>
            <p:nvPr/>
          </p:nvPicPr>
          <p:blipFill>
            <a:blip r:embed="rId3"/>
            <a:stretch/>
          </p:blipFill>
          <p:spPr>
            <a:xfrm>
              <a:off x="5689440" y="6019920"/>
              <a:ext cx="32259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17"/>
            <p:cNvSpPr/>
            <p:nvPr/>
          </p:nvSpPr>
          <p:spPr>
            <a:xfrm>
              <a:off x="4876920" y="6019920"/>
              <a:ext cx="4038480" cy="60948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at the pos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on computational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otopy vs homology – what it means for robotics applica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544-F545-4497-8A1A-6FC25D387BF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838080" y="43736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84807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Please stop by at the pos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2f04"/>
                </a:solidFill>
                <a:latin typeface="Calibri"/>
              </a:rPr>
              <a:t>Homotopy Classes in</a:t>
            </a:r>
            <a:br>
              <a:rPr sz="4000"/>
            </a:br>
            <a:r>
              <a:rPr b="0" lang="en-US" sz="4000" spc="-1" strike="noStrike">
                <a:solidFill>
                  <a:srgbClr val="642f04"/>
                </a:solidFill>
                <a:latin typeface="Calibri"/>
              </a:rPr>
              <a:t>3 Dimensional Configuration Spa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5C15-3222-4FFF-BF29-AA6AC3D80CC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43000" y="1509840"/>
            <a:ext cx="6327720" cy="123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940440" y="1320840"/>
            <a:ext cx="1746360" cy="1589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1219320" y="2830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jectories in different homotopy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62940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jectories in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otopy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838080" y="4427640"/>
            <a:ext cx="1408320" cy="993600"/>
            <a:chOff x="838080" y="4427640"/>
            <a:chExt cx="1408320" cy="993600"/>
          </a:xfrm>
        </p:grpSpPr>
        <p:sp>
          <p:nvSpPr>
            <p:cNvPr id="66" name="Rectangle 9"/>
            <p:cNvSpPr/>
            <p:nvPr/>
          </p:nvSpPr>
          <p:spPr>
            <a:xfrm>
              <a:off x="838080" y="4427640"/>
              <a:ext cx="414360" cy="249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Hexagon 10"/>
            <p:cNvSpPr/>
            <p:nvPr/>
          </p:nvSpPr>
          <p:spPr>
            <a:xfrm>
              <a:off x="1666800" y="4924440"/>
              <a:ext cx="579600" cy="49680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 rot="2153400">
              <a:off x="1404360" y="4540320"/>
              <a:ext cx="196920" cy="7272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12"/>
          <p:cNvSpPr/>
          <p:nvPr/>
        </p:nvSpPr>
        <p:spPr>
          <a:xfrm>
            <a:off x="649440" y="4278240"/>
            <a:ext cx="309240" cy="95400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831960" y="4403880"/>
            <a:ext cx="852480" cy="86508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925560" y="4735440"/>
            <a:ext cx="1095480" cy="68904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878040" y="5116680"/>
            <a:ext cx="1508040" cy="477720"/>
          </a:xfrm>
          <a:prstGeom prst="pie">
            <a:avLst/>
          </a:prstGeom>
          <a:noFill/>
          <a:ln w="9360">
            <a:solidFill>
              <a:srgbClr val="7f7f7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762120" y="5268960"/>
            <a:ext cx="82440" cy="8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533520" y="542124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2063880" y="430704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9"/>
          <p:cNvSpPr/>
          <p:nvPr/>
        </p:nvSpPr>
        <p:spPr>
          <a:xfrm>
            <a:off x="2021040" y="4424400"/>
            <a:ext cx="82440" cy="8244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1182600" y="4441680"/>
            <a:ext cx="2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533520" y="4413240"/>
            <a:ext cx="2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1335240" y="4975200"/>
            <a:ext cx="2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1730520" y="5356080"/>
            <a:ext cx="29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914400" y="618336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 prediction of dynamic agents in environment with dynamic obsta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5"/>
          <p:cNvGrpSpPr/>
          <p:nvPr/>
        </p:nvGrpSpPr>
        <p:grpSpPr>
          <a:xfrm>
            <a:off x="2179440" y="5626800"/>
            <a:ext cx="564120" cy="545760"/>
            <a:chOff x="2179440" y="5626800"/>
            <a:chExt cx="564120" cy="545760"/>
          </a:xfrm>
        </p:grpSpPr>
        <p:sp>
          <p:nvSpPr>
            <p:cNvPr id="83" name="Trapezoid 26"/>
            <p:cNvSpPr/>
            <p:nvPr/>
          </p:nvSpPr>
          <p:spPr>
            <a:xfrm rot="7920600">
              <a:off x="2198160" y="5686560"/>
              <a:ext cx="228600" cy="152640"/>
            </a:xfrm>
            <a:prstGeom prst="pie">
              <a:avLst/>
            </a:prstGeom>
            <a:solidFill>
              <a:srgbClr val="7f7f7f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 rot="7920600">
              <a:off x="2336400" y="5735880"/>
              <a:ext cx="317520" cy="3819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"/>
          <p:cNvPicPr/>
          <p:nvPr/>
        </p:nvPicPr>
        <p:blipFill>
          <a:blip r:embed="rId3"/>
          <a:srcRect l="0" t="30141" r="0" b="43711"/>
          <a:stretch/>
        </p:blipFill>
        <p:spPr>
          <a:xfrm>
            <a:off x="2666880" y="4343400"/>
            <a:ext cx="171468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9"/>
          <p:cNvSpPr/>
          <p:nvPr/>
        </p:nvSpPr>
        <p:spPr>
          <a:xfrm>
            <a:off x="2590920" y="5297400"/>
            <a:ext cx="2133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in tracking dynamic agents through multiple oc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. Shi, et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304920" y="36687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al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indow.wmv" descr=""/>
          <p:cNvPicPr/>
          <p:nvPr/>
        </p:nvPicPr>
        <p:blipFill>
          <a:blip r:embed="rId4"/>
          <a:stretch/>
        </p:blipFill>
        <p:spPr>
          <a:xfrm>
            <a:off x="5638680" y="3981600"/>
            <a:ext cx="2311560" cy="17334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2"/>
          <p:cNvSpPr/>
          <p:nvPr/>
        </p:nvSpPr>
        <p:spPr>
          <a:xfrm>
            <a:off x="5105520" y="573876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 trajectories in specific homotopy class (e.g. trajectory through a wind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. Mellinger, et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3"/>
          <p:cNvSpPr/>
          <p:nvPr/>
        </p:nvSpPr>
        <p:spPr>
          <a:xfrm>
            <a:off x="5105520" y="3581280"/>
            <a:ext cx="327636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33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2f04"/>
                </a:solidFill>
                <a:latin typeface="Calibri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n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fficient represen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homotopy classes of trajecto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representation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least cost paths with homotopy class constraints (solve the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onstrained optimization probl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different homotopy classes in a 3D configuration sp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the representation with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graph-search based plan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gorith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 for </a:t>
            </a: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optimal cost path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arbitrary cost fun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(not necessarily Euclidean distances)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bitrary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discretization schem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(Uniform, unstructured, triangulation, visibility graph, etc.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any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graph search algorith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(Dijkstra’s, A*, D*, ARA*, etc.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691E-1BD9-4AF3-92E9-CF8A97382B28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2f04"/>
                </a:solidFill>
                <a:latin typeface="Calibri"/>
              </a:rPr>
              <a:t>Homotopy Classes in Two Dimensional Space </a:t>
            </a:r>
            <a:r>
              <a:rPr b="0" lang="en-US" sz="2800" spc="-1" strike="noStrike">
                <a:solidFill>
                  <a:srgbClr val="642f04"/>
                </a:solidFill>
                <a:latin typeface="Calibri"/>
              </a:rPr>
              <a:t>(previous work: AAAI’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2666880" y="8550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AAFF-2F35-4D39-9238-3F3457E601B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"/>
          <p:cNvSpPr/>
          <p:nvPr/>
        </p:nvSpPr>
        <p:spPr>
          <a:xfrm>
            <a:off x="6804000" y="2874960"/>
            <a:ext cx="1959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8610480" y="28749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6"/>
          <p:cNvSpPr/>
          <p:nvPr/>
        </p:nvSpPr>
        <p:spPr>
          <a:xfrm flipV="1">
            <a:off x="6954120" y="1579320"/>
            <a:ext cx="32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651720" y="1454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7331040" y="1739880"/>
            <a:ext cx="1149480" cy="1039680"/>
            <a:chOff x="7331040" y="1739880"/>
            <a:chExt cx="1149480" cy="1039680"/>
          </a:xfrm>
        </p:grpSpPr>
        <p:sp>
          <p:nvSpPr>
            <p:cNvPr id="101" name="Rectangle 9"/>
            <p:cNvSpPr/>
            <p:nvPr/>
          </p:nvSpPr>
          <p:spPr>
            <a:xfrm>
              <a:off x="7331040" y="1739880"/>
              <a:ext cx="457200" cy="304560"/>
            </a:xfrm>
            <a:prstGeom prst="rect">
              <a:avLst/>
            </a:prstGeom>
            <a:solidFill>
              <a:srgbClr val="558ed5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 rot="20616600">
              <a:off x="7600680" y="2185920"/>
              <a:ext cx="838440" cy="228600"/>
            </a:xfrm>
            <a:prstGeom prst="ellipse">
              <a:avLst/>
            </a:prstGeom>
            <a:solidFill>
              <a:srgbClr val="558ed5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Hexagon 11"/>
            <p:cNvSpPr/>
            <p:nvPr/>
          </p:nvSpPr>
          <p:spPr>
            <a:xfrm>
              <a:off x="8175600" y="2417760"/>
              <a:ext cx="304920" cy="30456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558ed5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7718400" y="2717640"/>
              <a:ext cx="48960" cy="61920"/>
            </a:xfrm>
            <a:prstGeom prst="ellipse">
              <a:avLst/>
            </a:prstGeom>
            <a:solidFill>
              <a:srgbClr val="558ed5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ight Triangle 13"/>
            <p:cNvSpPr/>
            <p:nvPr/>
          </p:nvSpPr>
          <p:spPr>
            <a:xfrm>
              <a:off x="8175600" y="1858680"/>
              <a:ext cx="107640" cy="44280"/>
            </a:xfrm>
            <a:prstGeom prst="rtTriangle">
              <a:avLst/>
            </a:prstGeom>
            <a:solidFill>
              <a:srgbClr val="558ed5"/>
            </a:solidFill>
            <a:ln w="255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Oval 14"/>
          <p:cNvSpPr/>
          <p:nvPr/>
        </p:nvSpPr>
        <p:spPr>
          <a:xfrm>
            <a:off x="7489800" y="1935000"/>
            <a:ext cx="61920" cy="61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8099280" y="2178000"/>
            <a:ext cx="61920" cy="61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8265960" y="2558880"/>
            <a:ext cx="61920" cy="61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7261200" y="1712880"/>
            <a:ext cx="304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7870680" y="2120760"/>
            <a:ext cx="304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8251920" y="2475000"/>
            <a:ext cx="3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7184880" y="1881360"/>
            <a:ext cx="1319400" cy="666720"/>
          </a:xfrm>
          <a:prstGeom prst="pie">
            <a:avLst/>
          </a:prstGeom>
          <a:noFill/>
          <a:ln w="158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1"/>
          <p:cNvSpPr/>
          <p:nvPr/>
        </p:nvSpPr>
        <p:spPr>
          <a:xfrm>
            <a:off x="7189920" y="1886040"/>
            <a:ext cx="1314360" cy="652320"/>
          </a:xfrm>
          <a:prstGeom prst="pie">
            <a:avLst/>
          </a:prstGeom>
          <a:noFill/>
          <a:ln w="15840">
            <a:solidFill>
              <a:srgbClr val="63252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"/>
          <p:cNvSpPr/>
          <p:nvPr/>
        </p:nvSpPr>
        <p:spPr>
          <a:xfrm>
            <a:off x="7184880" y="1887480"/>
            <a:ext cx="1382760" cy="739800"/>
          </a:xfrm>
          <a:prstGeom prst="pi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3"/>
          <p:cNvSpPr/>
          <p:nvPr/>
        </p:nvSpPr>
        <p:spPr>
          <a:xfrm>
            <a:off x="7821720" y="138924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7910640" y="1611360"/>
            <a:ext cx="61920" cy="414360"/>
          </a:xfrm>
          <a:prstGeom prst="pie">
            <a:avLst/>
          </a:prstGeom>
          <a:noFill/>
          <a:ln w="936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8224920" y="1500120"/>
            <a:ext cx="32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6"/>
          <p:cNvSpPr/>
          <p:nvPr/>
        </p:nvSpPr>
        <p:spPr>
          <a:xfrm>
            <a:off x="8245440" y="1731960"/>
            <a:ext cx="111240" cy="353880"/>
          </a:xfrm>
          <a:prstGeom prst="pie">
            <a:avLst/>
          </a:prstGeom>
          <a:noFill/>
          <a:ln w="936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8548560" y="2225520"/>
            <a:ext cx="322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8"/>
          <p:cNvSpPr/>
          <p:nvPr/>
        </p:nvSpPr>
        <p:spPr>
          <a:xfrm>
            <a:off x="8447040" y="2287440"/>
            <a:ext cx="181080" cy="141480"/>
          </a:xfrm>
          <a:prstGeom prst="pie">
            <a:avLst/>
          </a:prstGeom>
          <a:noFill/>
          <a:ln w="9360">
            <a:solidFill>
              <a:srgbClr val="7f7f7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3187800" cy="533520"/>
          </a:xfrm>
          <a:prstGeom prst="rect">
            <a:avLst/>
          </a:prstGeom>
          <a:ln w="0">
            <a:noFill/>
          </a:ln>
        </p:spPr>
      </p:pic>
      <p:sp>
        <p:nvSpPr>
          <p:cNvPr id="122" name="Freeform 44"/>
          <p:cNvSpPr/>
          <p:nvPr/>
        </p:nvSpPr>
        <p:spPr>
          <a:xfrm>
            <a:off x="6843600" y="1957320"/>
            <a:ext cx="646200" cy="1173240"/>
          </a:xfrm>
          <a:prstGeom prst="pie">
            <a:avLst/>
          </a:prstGeom>
          <a:noFill/>
          <a:ln w="9360">
            <a:solidFill>
              <a:srgbClr val="953735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5"/>
          <p:cNvSpPr/>
          <p:nvPr/>
        </p:nvSpPr>
        <p:spPr>
          <a:xfrm>
            <a:off x="7337520" y="2581200"/>
            <a:ext cx="946080" cy="549360"/>
          </a:xfrm>
          <a:prstGeom prst="pie">
            <a:avLst/>
          </a:prstGeom>
          <a:noFill/>
          <a:ln w="9360">
            <a:solidFill>
              <a:srgbClr val="953735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4923000" y="4038480"/>
            <a:ext cx="1706400" cy="5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rcRect l="0" t="0" r="53184" b="0"/>
          <a:stretch/>
        </p:blipFill>
        <p:spPr>
          <a:xfrm>
            <a:off x="3429000" y="4425840"/>
            <a:ext cx="1752480" cy="189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4"/>
          <a:srcRect l="72823" t="0" r="2664" b="28780"/>
          <a:stretch/>
        </p:blipFill>
        <p:spPr>
          <a:xfrm>
            <a:off x="1665360" y="4368960"/>
            <a:ext cx="1436760" cy="1803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9"/>
          <p:cNvSpPr/>
          <p:nvPr/>
        </p:nvSpPr>
        <p:spPr>
          <a:xfrm>
            <a:off x="6477120" y="310500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presentative point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side obstac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0"/>
          <p:cNvGrpSpPr/>
          <p:nvPr/>
        </p:nvGrpSpPr>
        <p:grpSpPr>
          <a:xfrm>
            <a:off x="6858000" y="3809880"/>
            <a:ext cx="1457280" cy="1447920"/>
            <a:chOff x="6858000" y="3809880"/>
            <a:chExt cx="1457280" cy="1447920"/>
          </a:xfrm>
        </p:grpSpPr>
        <p:pic>
          <p:nvPicPr>
            <p:cNvPr id="129" name="Picture 3" descr=""/>
            <p:cNvPicPr/>
            <p:nvPr/>
          </p:nvPicPr>
          <p:blipFill>
            <a:blip r:embed="rId5"/>
            <a:stretch/>
          </p:blipFill>
          <p:spPr>
            <a:xfrm>
              <a:off x="6858000" y="3809880"/>
              <a:ext cx="145728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75"/>
            <p:cNvGrpSpPr/>
            <p:nvPr/>
          </p:nvGrpSpPr>
          <p:grpSpPr>
            <a:xfrm>
              <a:off x="6996960" y="4057920"/>
              <a:ext cx="1186560" cy="1072440"/>
              <a:chOff x="6996960" y="4057920"/>
              <a:chExt cx="1186560" cy="1072440"/>
            </a:xfrm>
          </p:grpSpPr>
          <p:sp>
            <p:nvSpPr>
              <p:cNvPr id="131" name="Rectangle 67"/>
              <p:cNvSpPr/>
              <p:nvPr/>
            </p:nvSpPr>
            <p:spPr>
              <a:xfrm>
                <a:off x="6996960" y="4057920"/>
                <a:ext cx="471600" cy="3139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68"/>
              <p:cNvSpPr/>
              <p:nvPr/>
            </p:nvSpPr>
            <p:spPr>
              <a:xfrm rot="20616600">
                <a:off x="7274880" y="4518000"/>
                <a:ext cx="865800" cy="234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Hexagon 69"/>
              <p:cNvSpPr/>
              <p:nvPr/>
            </p:nvSpPr>
            <p:spPr>
              <a:xfrm>
                <a:off x="7869240" y="4755960"/>
                <a:ext cx="314280" cy="3157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70"/>
              <p:cNvSpPr/>
              <p:nvPr/>
            </p:nvSpPr>
            <p:spPr>
              <a:xfrm>
                <a:off x="7397280" y="5067000"/>
                <a:ext cx="50760" cy="63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ight Triangle 71"/>
              <p:cNvSpPr/>
              <p:nvPr/>
            </p:nvSpPr>
            <p:spPr>
              <a:xfrm>
                <a:off x="7869240" y="4179960"/>
                <a:ext cx="112680" cy="47520"/>
              </a:xfrm>
              <a:prstGeom prst="rtTriangl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Oval 63"/>
            <p:cNvSpPr/>
            <p:nvPr/>
          </p:nvSpPr>
          <p:spPr>
            <a:xfrm>
              <a:off x="7189560" y="4174920"/>
              <a:ext cx="61920" cy="61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7686720" y="4605480"/>
              <a:ext cx="6192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7983720" y="4903920"/>
              <a:ext cx="633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6"/>
            <p:cNvSpPr/>
            <p:nvPr/>
          </p:nvSpPr>
          <p:spPr>
            <a:xfrm>
              <a:off x="6946560" y="4236840"/>
              <a:ext cx="1320840" cy="650880"/>
            </a:xfrm>
            <a:prstGeom prst="pie">
              <a:avLst/>
            </a:prstGeom>
            <a:noFill/>
            <a:ln w="190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72"/>
          <p:cNvSpPr/>
          <p:nvPr/>
        </p:nvSpPr>
        <p:spPr>
          <a:xfrm>
            <a:off x="6934320" y="48006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3"/>
          <p:cNvSpPr/>
          <p:nvPr/>
        </p:nvSpPr>
        <p:spPr>
          <a:xfrm>
            <a:off x="8001000" y="40356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5"/>
          <p:cNvSpPr/>
          <p:nvPr/>
        </p:nvSpPr>
        <p:spPr>
          <a:xfrm>
            <a:off x="6629400" y="533412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Can be used fo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aph-search based plannin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with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motopy class constraints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6"/>
          <p:cNvSpPr/>
          <p:nvPr/>
        </p:nvSpPr>
        <p:spPr>
          <a:xfrm>
            <a:off x="3276720" y="613584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otopy class exploration in a large environment (1000x1000 discret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7"/>
          <p:cNvSpPr/>
          <p:nvPr/>
        </p:nvSpPr>
        <p:spPr>
          <a:xfrm>
            <a:off x="1371600" y="613584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lanning wi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otopy class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visibility constra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8"/>
          <p:cNvSpPr/>
          <p:nvPr/>
        </p:nvSpPr>
        <p:spPr>
          <a:xfrm>
            <a:off x="38088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1"/>
          <p:cNvSpPr/>
          <p:nvPr/>
        </p:nvSpPr>
        <p:spPr>
          <a:xfrm>
            <a:off x="380880" y="1916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present the configuration space by a complex p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2"/>
          <p:cNvSpPr/>
          <p:nvPr/>
        </p:nvSpPr>
        <p:spPr>
          <a:xfrm>
            <a:off x="380880" y="2554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nstruct an analytic function with singularties at “representative point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8"/>
          <p:cNvSpPr/>
          <p:nvPr/>
        </p:nvSpPr>
        <p:spPr>
          <a:xfrm>
            <a:off x="380880" y="3495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Leverage Cauchy Integral and Residue Theorems to design 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dit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omotopy class invari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9"/>
          <p:cNvSpPr/>
          <p:nvPr/>
        </p:nvSpPr>
        <p:spPr>
          <a:xfrm>
            <a:off x="304920" y="4343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2f04"/>
                </a:solidFill>
                <a:latin typeface="Calibri"/>
              </a:rPr>
              <a:t>Three Dimensional Spaces – Exploit Theorems from Electromagnet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90E-3E3D-4AEC-8F1E-FE3123A100A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38080" y="1542960"/>
            <a:ext cx="2743200" cy="4286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4191120" y="3067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per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4419720" y="1911240"/>
            <a:ext cx="3967200" cy="927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4519440" y="3681360"/>
            <a:ext cx="4243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3657600" y="4896000"/>
            <a:ext cx="4952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agnetic field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gnetic constant (can be chosen as 1 with proper choice of un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191120" y="1523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ot-Savart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D0EE-F51E-459B-A695-2F62EFD8FAA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762120" y="1219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6"/>
          <p:cNvSpPr/>
          <p:nvPr/>
        </p:nvSpPr>
        <p:spPr>
          <a:xfrm>
            <a:off x="3962520" y="12952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5410080" y="3048120"/>
            <a:ext cx="2895840" cy="1849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 rot="14802000">
            <a:off x="6037200" y="363240"/>
            <a:ext cx="1611360" cy="27576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9"/>
          <p:cNvSpPr/>
          <p:nvPr/>
        </p:nvSpPr>
        <p:spPr>
          <a:xfrm>
            <a:off x="5562720" y="2438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se unbounded obsta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own Arrow 20"/>
          <p:cNvSpPr/>
          <p:nvPr/>
        </p:nvSpPr>
        <p:spPr>
          <a:xfrm>
            <a:off x="6553080" y="2895480"/>
            <a:ext cx="457200" cy="5335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5562720" y="4876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rtually decom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us &gt; 1 obsta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1325520" y="2666880"/>
            <a:ext cx="2712960" cy="2219400"/>
          </a:xfrm>
          <a:prstGeom prst="rect">
            <a:avLst/>
          </a:prstGeom>
          <a:ln w="0">
            <a:noFill/>
          </a:ln>
        </p:spPr>
      </p:pic>
      <p:sp>
        <p:nvSpPr>
          <p:cNvPr id="167" name="Left Arrow 23"/>
          <p:cNvSpPr/>
          <p:nvPr/>
        </p:nvSpPr>
        <p:spPr>
          <a:xfrm>
            <a:off x="4191120" y="3886200"/>
            <a:ext cx="838080" cy="3808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1143000" y="4800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imple homotopy inducing obstacle (SH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wn Arrow 25"/>
          <p:cNvSpPr/>
          <p:nvPr/>
        </p:nvSpPr>
        <p:spPr>
          <a:xfrm>
            <a:off x="2362320" y="5477040"/>
            <a:ext cx="45720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533520" y="5943600"/>
            <a:ext cx="4419360" cy="703800"/>
          </a:xfrm>
          <a:prstGeom prst="rect">
            <a:avLst/>
          </a:prstGeom>
          <a:noFill/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truct skeleton of a SHIO an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at as a current carrying 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2f04"/>
                </a:solidFill>
                <a:latin typeface="Calibri"/>
              </a:rPr>
              <a:t>Extraction of skeletons of 3D obsta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2f04"/>
                </a:solidFill>
                <a:latin typeface="Calibri"/>
              </a:rPr>
              <a:t>h-</a:t>
            </a:r>
            <a:r>
              <a:rPr b="0" lang="en-US" sz="4400" spc="-1" strike="noStrike">
                <a:solidFill>
                  <a:srgbClr val="642f04"/>
                </a:solidFill>
                <a:latin typeface="Calibri"/>
              </a:rPr>
              <a:t>Sign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87EC-CC8A-4A24-AF18-172F819155F5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818240" y="4114800"/>
            <a:ext cx="2374560" cy="71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3213000" cy="3809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4629240" y="1600200"/>
            <a:ext cx="4133880" cy="1015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0"/>
          <p:cNvSpPr/>
          <p:nvPr/>
        </p:nvSpPr>
        <p:spPr>
          <a:xfrm>
            <a:off x="4114800" y="1230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rtual Magnetic Field due t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H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4114800" y="28764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signature of trajectory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4"/>
          <a:stretch/>
        </p:blipFill>
        <p:spPr>
          <a:xfrm>
            <a:off x="4572000" y="3390840"/>
            <a:ext cx="4038480" cy="4190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3"/>
          <p:cNvSpPr/>
          <p:nvPr/>
        </p:nvSpPr>
        <p:spPr>
          <a:xfrm>
            <a:off x="4495680" y="3897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4799160" cy="58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6"/>
          <a:stretch/>
        </p:blipFill>
        <p:spPr>
          <a:xfrm>
            <a:off x="2514600" y="6035760"/>
            <a:ext cx="2735280" cy="6699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6"/>
          <p:cNvSpPr/>
          <p:nvPr/>
        </p:nvSpPr>
        <p:spPr>
          <a:xfrm>
            <a:off x="5562720" y="546084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We can use </a:t>
            </a:r>
            <a:r>
              <a:rPr b="1" i="1" lang="en-US" sz="2000" spc="-1" strike="noStrike">
                <a:solidFill>
                  <a:srgbClr val="632523"/>
                </a:solidFill>
                <a:latin typeface="Calibri"/>
              </a:rPr>
              <a:t>h-signatures </a:t>
            </a: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to identify homotopy classes of traj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2f04"/>
                </a:solidFill>
                <a:latin typeface="Calibri"/>
              </a:rPr>
              <a:t>h</a:t>
            </a:r>
            <a:r>
              <a:rPr b="0" lang="en-US" sz="4400" spc="-1" strike="noStrike">
                <a:solidFill>
                  <a:srgbClr val="642f04"/>
                </a:solidFill>
                <a:latin typeface="Calibri"/>
              </a:rPr>
              <a:t>-signature augmented 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339C-D361-4B00-AE8B-909A52BF74C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581360" y="1000080"/>
            <a:ext cx="1514520" cy="3715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685800" y="9144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discretization graph                            laid upon the environment, we constru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3040200" y="1676520"/>
            <a:ext cx="2751120" cy="609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42"/>
          <p:cNvSpPr/>
          <p:nvPr/>
        </p:nvSpPr>
        <p:spPr>
          <a:xfrm>
            <a:off x="4114800" y="31050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in </a:t>
            </a:r>
            <a:r>
              <a:rPr b="0" i="1" lang="en-US" sz="2000" spc="-1" strike="noStrike">
                <a:solidFill>
                  <a:srgbClr val="000000"/>
                </a:solidFill>
                <a:latin typeface="Lucida Handwriting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43"/>
          <p:cNvSpPr/>
          <p:nvPr/>
        </p:nvSpPr>
        <p:spPr>
          <a:xfrm>
            <a:off x="5578560" y="308628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rush Script MT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z)}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Lucida Handwriting"/>
              </a:rPr>
              <a:t>G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own Arrow 9"/>
          <p:cNvSpPr/>
          <p:nvPr/>
        </p:nvSpPr>
        <p:spPr>
          <a:xfrm rot="16200000">
            <a:off x="5218920" y="3064680"/>
            <a:ext cx="395280" cy="438480"/>
          </a:xfrm>
          <a:prstGeom prst="downArrow">
            <a:avLst>
              <a:gd name="adj1" fmla="val 50000"/>
              <a:gd name="adj2" fmla="val 50036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73480"/>
                <a:tab algn="l" pos="834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3352680" y="1905120"/>
            <a:ext cx="2286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4840200" y="1928880"/>
            <a:ext cx="1731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5397480" y="1928880"/>
            <a:ext cx="152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762120" y="2228760"/>
            <a:ext cx="7696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that, each nod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s augmented with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signatur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so that nodes are distinguished by homotopy class of path taken to reac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5791320" y="477036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finition is similar to that of L-augmented graph used for the 2D case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AAI’1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More details at the pos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3"/>
          <a:stretch/>
        </p:blipFill>
        <p:spPr>
          <a:xfrm>
            <a:off x="838080" y="4622760"/>
            <a:ext cx="2362320" cy="1854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4"/>
          <a:stretch/>
        </p:blipFill>
        <p:spPr>
          <a:xfrm>
            <a:off x="3006720" y="4470480"/>
            <a:ext cx="2311560" cy="22096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0"/>
          <p:cNvSpPr/>
          <p:nvPr/>
        </p:nvSpPr>
        <p:spPr>
          <a:xfrm>
            <a:off x="838080" y="389736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ght into topology of the augmented graph (the 2-D cas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2f04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200-9477-486B-B90C-61276CF7F6D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104920" y="1143000"/>
            <a:ext cx="1933560" cy="2513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685800" y="13176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ploration of 4 homotopy classes in presence of 2 SHI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6400800" y="1293840"/>
            <a:ext cx="2057400" cy="21304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4495680" y="129384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ploration of 4 homotopy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 presence of 4 SHI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533520" y="3962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 in X-Y-Time configuration sp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xyt.wmv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380880" y="838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 in X-Y-Z configuration sp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7086600" y="5602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ore results at the p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478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03:39:34Z</dcterms:created>
  <dc:creator>Subhrajit</dc:creator>
  <dc:description/>
  <dc:language>en-US</dc:language>
  <cp:lastModifiedBy>Subhrajit</cp:lastModifiedBy>
  <dcterms:modified xsi:type="dcterms:W3CDTF">2011-06-17T19:59:29Z</dcterms:modified>
  <cp:revision>58</cp:revision>
  <dc:subject/>
  <dc:title>Slide 1</dc:title>
</cp:coreProperties>
</file>