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1420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98840" y="34146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10160" y="420840"/>
            <a:ext cx="45705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Little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druped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nufactur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oston Dyna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9880" y="4419720"/>
            <a:ext cx="3886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V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on Capture System (MOCAP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7800" y="6257880"/>
            <a:ext cx="2901960" cy="10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y walk when you can roll on whee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llenges (coming up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82960" y="452520"/>
            <a:ext cx="61513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ordinate Systems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oot worksp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4240" y="1501920"/>
            <a:ext cx="1440" cy="16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4240" y="316404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1920" y="3164040"/>
            <a:ext cx="923760" cy="711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3640" y="1808280"/>
            <a:ext cx="1549440" cy="904680"/>
          </a:xfrm>
          <a:custGeom>
            <a:avLst/>
            <a:gdLst/>
            <a:ahLst/>
            <a:rect l="l" t="t" r="r" b="b"/>
            <a:pathLst>
              <a:path w="4306" h="2512">
                <a:moveTo>
                  <a:pt x="0" y="1345"/>
                </a:moveTo>
                <a:lnTo>
                  <a:pt x="494" y="2511"/>
                </a:lnTo>
                <a:lnTo>
                  <a:pt x="4305" y="1165"/>
                </a:lnTo>
                <a:lnTo>
                  <a:pt x="3857" y="0"/>
                </a:lnTo>
                <a:lnTo>
                  <a:pt x="45" y="1390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2520" y="1614600"/>
            <a:ext cx="279360" cy="617400"/>
          </a:xfrm>
          <a:custGeom>
            <a:avLst/>
            <a:gdLst/>
            <a:ahLst/>
            <a:rect l="l" t="t" r="r" b="b"/>
            <a:pathLst>
              <a:path w="775" h="1716">
                <a:moveTo>
                  <a:pt x="0" y="539"/>
                </a:moveTo>
                <a:lnTo>
                  <a:pt x="370" y="0"/>
                </a:lnTo>
                <a:lnTo>
                  <a:pt x="774" y="1032"/>
                </a:lnTo>
                <a:lnTo>
                  <a:pt x="460" y="1715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49480" y="1614600"/>
            <a:ext cx="1501920" cy="693720"/>
          </a:xfrm>
          <a:custGeom>
            <a:avLst/>
            <a:gdLst/>
            <a:ahLst/>
            <a:rect l="l" t="t" r="r" b="b"/>
            <a:pathLst>
              <a:path w="4172" h="1929">
                <a:moveTo>
                  <a:pt x="0" y="1928"/>
                </a:moveTo>
                <a:lnTo>
                  <a:pt x="516" y="1233"/>
                </a:lnTo>
                <a:lnTo>
                  <a:pt x="516" y="1222"/>
                </a:lnTo>
                <a:lnTo>
                  <a:pt x="4171" y="0"/>
                </a:lnTo>
                <a:lnTo>
                  <a:pt x="3812" y="526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598920" y="1539360"/>
            <a:ext cx="1017360" cy="374760"/>
          </a:xfrm>
          <a:prstGeom prst="line">
            <a:avLst/>
          </a:prstGeom>
          <a:ln w="9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661840" y="1403280"/>
            <a:ext cx="165240" cy="519120"/>
          </a:xfrm>
          <a:prstGeom prst="line">
            <a:avLst/>
          </a:prstGeom>
          <a:ln w="9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20640" y="2308320"/>
            <a:ext cx="422280" cy="549360"/>
          </a:xfrm>
          <a:prstGeom prst="line">
            <a:avLst/>
          </a:prstGeom>
          <a:ln w="9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3184560"/>
            <a:ext cx="1695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al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00240" y="2394000"/>
            <a:ext cx="1695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F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0520" y="4809960"/>
            <a:ext cx="3003480" cy="2067120"/>
            <a:chOff x="560520" y="4809960"/>
            <a:chExt cx="3003480" cy="2067120"/>
          </a:xfrm>
        </p:grpSpPr>
        <p:sp>
          <p:nvSpPr>
            <p:cNvPr id="207" name=""/>
            <p:cNvSpPr/>
            <p:nvPr/>
          </p:nvSpPr>
          <p:spPr>
            <a:xfrm>
              <a:off x="560520" y="5102280"/>
              <a:ext cx="1760400" cy="887400"/>
            </a:xfrm>
            <a:custGeom>
              <a:avLst/>
              <a:gdLst/>
              <a:ahLst/>
              <a:rect l="l" t="t" r="r" b="b"/>
              <a:pathLst>
                <a:path w="4889" h="2467">
                  <a:moveTo>
                    <a:pt x="44" y="0"/>
                  </a:moveTo>
                  <a:lnTo>
                    <a:pt x="4888" y="0"/>
                  </a:lnTo>
                  <a:lnTo>
                    <a:pt x="4888" y="2466"/>
                  </a:lnTo>
                  <a:lnTo>
                    <a:pt x="0" y="2466"/>
                  </a:lnTo>
                  <a:lnTo>
                    <a:pt x="897" y="1569"/>
                  </a:lnTo>
                  <a:lnTo>
                    <a:pt x="44" y="716"/>
                  </a:lnTo>
                  <a:lnTo>
                    <a:pt x="44" y="45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6360" y="4809960"/>
              <a:ext cx="2079360" cy="290520"/>
            </a:xfrm>
            <a:custGeom>
              <a:avLst/>
              <a:gdLst/>
              <a:ahLst/>
              <a:rect l="l" t="t" r="r" b="b"/>
              <a:pathLst>
                <a:path w="5775" h="809">
                  <a:moveTo>
                    <a:pt x="4844" y="808"/>
                  </a:moveTo>
                  <a:lnTo>
                    <a:pt x="5774" y="0"/>
                  </a:lnTo>
                  <a:lnTo>
                    <a:pt x="1099" y="12"/>
                  </a:lnTo>
                  <a:lnTo>
                    <a:pt x="695" y="213"/>
                  </a:lnTo>
                  <a:lnTo>
                    <a:pt x="1144" y="415"/>
                  </a:lnTo>
                  <a:lnTo>
                    <a:pt x="303" y="482"/>
                  </a:lnTo>
                  <a:lnTo>
                    <a:pt x="426" y="662"/>
                  </a:lnTo>
                  <a:lnTo>
                    <a:pt x="0" y="808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0920" y="4809960"/>
              <a:ext cx="351000" cy="1179720"/>
            </a:xfrm>
            <a:custGeom>
              <a:avLst/>
              <a:gdLst/>
              <a:ahLst/>
              <a:rect l="l" t="t" r="r" b="b"/>
              <a:pathLst>
                <a:path w="976" h="3275">
                  <a:moveTo>
                    <a:pt x="930" y="0"/>
                  </a:moveTo>
                  <a:lnTo>
                    <a:pt x="975" y="2366"/>
                  </a:lnTo>
                  <a:lnTo>
                    <a:pt x="0" y="3274"/>
                  </a:lnTo>
                  <a:lnTo>
                    <a:pt x="0" y="808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06360" y="5359320"/>
              <a:ext cx="2357640" cy="15177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89120" y="5634000"/>
              <a:ext cx="115920" cy="549360"/>
            </a:xfrm>
            <a:prstGeom prst="line">
              <a:avLst/>
            </a:prstGeom>
            <a:ln w="36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689120" y="6181560"/>
              <a:ext cx="923760" cy="277920"/>
            </a:xfrm>
            <a:prstGeom prst="line">
              <a:avLst/>
            </a:prstGeom>
            <a:ln w="3672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714760" y="6791400"/>
            <a:ext cx="2179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kspace of a leg in body fixed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6480" y="5486400"/>
            <a:ext cx="283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 workspaces are fixed in the body fixed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618240" y="1498680"/>
                <a:ext cx="2274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</m:eqAr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</m:eqAr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4040" y="3335400"/>
                <a:ext cx="31399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G</m:t>
                                </m:r>
                              </m:sup>
                            </m:sSup>
                          </m:e>
                          <m:e>
                            <m:r>
                              <m:t xml:space="preserve">1</m:t>
                            </m:r>
                          </m:e>
                        </m:eqAr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R</m:t>
                                  </m:r>
                                </m:e>
                              </m:d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eqArr>
                                    <m:e>
                                      <m:s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  <m:e>
                                      <m:sSup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  <m:e>
                                      <m:sSup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eqArr>
                                </m:e>
                              </m:d>
                            </m:e>
                          </m:mr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>
                            <m:r>
                              <m:t xml:space="preserve">1</m:t>
                            </m:r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953400" y="4962600"/>
            <a:ext cx="21668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ogeneous transformation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08680" y="2911320"/>
            <a:ext cx="3471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ogeneous coordin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0880" y="5753160"/>
            <a:ext cx="3786120" cy="1754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thogonal and Rotation (SO) matrices – 2D and 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uler angles, </a:t>
            </a:r>
            <a:r>
              <a:rPr b="1" lang="en-GB" sz="1600" spc="-1" strike="noStrike">
                <a:solidFill>
                  <a:srgbClr val="ff3333"/>
                </a:solidFill>
                <a:latin typeface="Arial"/>
              </a:rPr>
              <a:t>exponential coordinates </a:t>
            </a:r>
            <a:r>
              <a:rPr b="1" lang="en-GB" sz="1400" spc="-1" strike="noStrike">
                <a:solidFill>
                  <a:srgbClr val="ff3333"/>
                </a:solidFill>
                <a:latin typeface="Arial"/>
              </a:rPr>
              <a:t>(Euler's rotation theorem)</a:t>
            </a:r>
            <a:r>
              <a:rPr b="1" lang="en-GB" sz="1400" spc="-1" strike="noStrike">
                <a:solidFill>
                  <a:srgbClr val="ff3333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skpace boundary of littledog's legs (sphere) [refer to slide 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92480" y="371520"/>
            <a:ext cx="6021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ning and Contro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" y="1644480"/>
            <a:ext cx="81691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a very rough trajectory for center of mass that needs to be followed (Planning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rmine the direction in which the robot needs to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ose a new foothold that will make the robot move in the desired direction and make sure we choose a good foothold (greedy part of the algorith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body to triangle of support (actuatio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robot's body position from mocap readings (feedbac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k up leg and place it in the location chosen in step 3 (actuatio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robot's body position from mocap readings (feedback)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[Repeat steps 2 to 7 until goal is reach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260360"/>
            <a:ext cx="55371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egy I – A Greedy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789440"/>
            <a:ext cx="7588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egy II – More elaborate planning of foot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3440" y="5143680"/>
            <a:ext cx="89438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ending on the terrain do an elaborate planning of foot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we know the footholds that we need to follow, we just execute the corresponding body and foot motions to follow those foot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7880" y="6002280"/>
            <a:ext cx="96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30240" y="6039000"/>
            <a:ext cx="68040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More optimal planning possi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Since the footholds are known before execution is started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it is possible to have more efficient body po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. Simultaneous body and foot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6680" y="6221520"/>
            <a:ext cx="2816280" cy="1287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ails of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rrain scores,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pos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95640" y="515880"/>
            <a:ext cx="552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ynamic gaits of the Littledog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86280" y="3719520"/>
            <a:ext cx="2084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leap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86680" y="6437160"/>
            <a:ext cx="2816280" cy="10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ulsive tor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timization through simulation (paper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440" y="90360"/>
            <a:ext cx="6102360" cy="370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78800" y="131760"/>
            <a:ext cx="2006640" cy="551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8440" y="3960720"/>
            <a:ext cx="6854760" cy="344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723080" y="7169040"/>
            <a:ext cx="2536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© Bosto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51800" y="6473880"/>
            <a:ext cx="2367000" cy="587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cription of l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5880" y="3468600"/>
            <a:ext cx="960120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tu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2 servo motors for controlling the 12 joints of the robo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──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that's the only control we hav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35720" y="157320"/>
            <a:ext cx="4060800" cy="304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70040" y="13500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8480" y="4559400"/>
            <a:ext cx="868680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CAP syst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eflective markers on the robot and the terrain bo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ed LEDs flashing light on the ma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6 cameras looking down on the terrain and the robot to locate the ma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8480" y="6267600"/>
            <a:ext cx="89154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-board sens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3-axes force sensor on each 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IMU for measuring the orientation and angular speeds of the rob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aser range se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21320" y="5859360"/>
            <a:ext cx="3586320" cy="10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mocap locate the ter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taining terrain height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discussion on the s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99880"/>
            <a:ext cx="9829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opolog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figuration manifol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 mobile r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4200" y="1030320"/>
            <a:ext cx="37242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2719440" y="2097000"/>
            <a:ext cx="1428840" cy="59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19440" y="2692440"/>
            <a:ext cx="1166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11520" y="5497560"/>
            <a:ext cx="1440" cy="282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3120" y="5607000"/>
            <a:ext cx="1869840" cy="32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0240" y="2705040"/>
            <a:ext cx="1800" cy="278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6360" y="2706840"/>
            <a:ext cx="231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87600" y="5535720"/>
            <a:ext cx="347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960" y="3843360"/>
            <a:ext cx="347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32080" y="2478240"/>
            <a:ext cx="55800" cy="214200"/>
          </a:xfrm>
          <a:custGeom>
            <a:avLst/>
            <a:gdLst/>
            <a:ahLst/>
            <a:rect l="l" t="t" r="r" b="b"/>
            <a:pathLst>
              <a:path w="154" h="595">
                <a:moveTo>
                  <a:pt x="0" y="0"/>
                </a:moveTo>
                <a:cubicBezTo>
                  <a:pt x="153" y="172"/>
                  <a:pt x="133" y="594"/>
                  <a:pt x="133" y="5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3240" y="2403360"/>
            <a:ext cx="347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3960" y="1827360"/>
            <a:ext cx="347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83000" y="2124000"/>
            <a:ext cx="282600" cy="654120"/>
          </a:xfrm>
          <a:custGeom>
            <a:avLst/>
            <a:gdLst/>
            <a:ahLst/>
            <a:rect l="l" t="t" r="r" b="b"/>
            <a:pathLst>
              <a:path w="783" h="1817">
                <a:moveTo>
                  <a:pt x="418" y="1816"/>
                </a:moveTo>
                <a:cubicBezTo>
                  <a:pt x="782" y="80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863720"/>
            <a:ext cx="347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000080"/>
            <a:ext cx="5486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figuration uniquely defin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(x, y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θ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3 dimensional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ation spac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u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, unlik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oes not go from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t ranges from -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to +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, with -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π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at's the “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pology”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 call i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ation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ifold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122880"/>
            <a:ext cx="66787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sible directions of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ω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– no side motion possib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on-holonomic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8720" y="5715000"/>
            <a:ext cx="3568680" cy="1760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, R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S, S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SO(2), SE(2), SO(3), SE(3) manif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33"/>
                </a:solidFill>
                <a:latin typeface="Arial"/>
              </a:rPr>
              <a:t>What is a manifo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discussion on possible directions of motion (tangent space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29988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figuration manifol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 quadruped r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1145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143000"/>
            <a:ext cx="4343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18 dimensional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-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28600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eet, Body cannot penetrate the terrain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3200400"/>
            <a:ext cx="61722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t least 3 feet should touch the ground at any i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Statically stable system / quasi-stat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No slippage at th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69840" y="5867280"/>
            <a:ext cx="7176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0720" indent="-3697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R10"/>
              </a:rPr>
              <a:t>John William Goodwine, Jr.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TI10"/>
              </a:rPr>
              <a:t>Control of Stratified Systems with Robotic Application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R10"/>
              </a:rPr>
              <a:t>, Doctoral Thesis, California Institute of Technology (199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3697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R10"/>
              </a:rPr>
              <a:t>Subhrajit Bhattacharya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BX12"/>
              </a:rPr>
              <a:t>Motion Planning in a Stratifie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R10"/>
              </a:rPr>
              <a:t>Workspace Manifold of a Quadruped Walking Robot, Technical Report, University of Pennsylvania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680000"/>
            <a:ext cx="9829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03240">
              <a:lnSpc>
                <a:spcPct val="93000"/>
              </a:lnSpc>
              <a:tabLst>
                <a:tab algn="l" pos="0"/>
                <a:tab algn="l" pos="66024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CMR10"/>
              </a:rPr>
              <a:t>Configuration Manifold characterized by discontinuities and constraints in direction of motion –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CMR10"/>
              </a:rPr>
              <a:t>A Stratified Manifold</a:t>
            </a:r>
            <a:br>
              <a:rPr sz="2200"/>
            </a:br>
            <a:r>
              <a:rPr b="1" i="1" lang="en-GB" sz="600" spc="-1" strike="noStrike">
                <a:solidFill>
                  <a:srgbClr val="000000"/>
                </a:solidFill>
                <a:latin typeface="Arial"/>
                <a:ea typeface="CMR10"/>
              </a:rPr>
              <a:t>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CMR10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03240">
              <a:lnSpc>
                <a:spcPct val="93000"/>
              </a:lnSpc>
              <a:tabLst>
                <a:tab algn="l" pos="0"/>
                <a:tab algn="l" pos="66024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CMR10"/>
              </a:rPr>
              <a:t>Further re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69240" y="6435720"/>
            <a:ext cx="3014640" cy="10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details on stratified manifolds </a:t>
            </a:r>
            <a:r>
              <a:rPr b="1" lang="en-GB" sz="1600" spc="-1" strike="noStrike">
                <a:solidFill>
                  <a:srgbClr val="b84700"/>
                </a:solidFill>
                <a:latin typeface="Arial"/>
              </a:rPr>
              <a:t>(simple example)</a:t>
            </a:r>
            <a:r>
              <a:rPr b="1" lang="en-GB" sz="1600" spc="-1" strike="noStrike">
                <a:solidFill>
                  <a:srgbClr val="b847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33"/>
                </a:solidFill>
                <a:latin typeface="Arial"/>
              </a:rPr>
              <a:t>Specific to this rob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17800" y="312840"/>
            <a:ext cx="5715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ward and Inverse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98800" y="1155600"/>
            <a:ext cx="50292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 Kinema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s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 +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s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in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 +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in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47840" y="1131840"/>
            <a:ext cx="3751200" cy="2087280"/>
            <a:chOff x="447840" y="1131840"/>
            <a:chExt cx="3751200" cy="2087280"/>
          </a:xfrm>
        </p:grpSpPr>
        <p:sp>
          <p:nvSpPr>
            <p:cNvPr id="87" name=""/>
            <p:cNvSpPr/>
            <p:nvPr/>
          </p:nvSpPr>
          <p:spPr>
            <a:xfrm>
              <a:off x="2598840" y="1131840"/>
              <a:ext cx="1600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x, y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7840" y="1271160"/>
              <a:ext cx="2752560" cy="1947960"/>
              <a:chOff x="447840" y="1271160"/>
              <a:chExt cx="2752560" cy="1947960"/>
            </a:xfrm>
          </p:grpSpPr>
          <p:sp>
            <p:nvSpPr>
              <p:cNvPr id="89" name=""/>
              <p:cNvSpPr/>
              <p:nvPr/>
            </p:nvSpPr>
            <p:spPr>
              <a:xfrm>
                <a:off x="1166760" y="2886120"/>
                <a:ext cx="74520" cy="222120"/>
              </a:xfrm>
              <a:custGeom>
                <a:avLst/>
                <a:gdLst/>
                <a:ahLst/>
                <a:rect l="l" t="t" r="r" b="b"/>
                <a:pathLst>
                  <a:path w="206" h="618">
                    <a:moveTo>
                      <a:pt x="0" y="0"/>
                    </a:moveTo>
                    <a:cubicBezTo>
                      <a:pt x="205" y="289"/>
                      <a:pt x="165" y="617"/>
                      <a:pt x="165" y="6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89280" y="2587680"/>
                <a:ext cx="10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1040" y="2370240"/>
                <a:ext cx="152280" cy="217440"/>
              </a:xfrm>
              <a:custGeom>
                <a:avLst/>
                <a:gdLst/>
                <a:ahLst/>
                <a:rect l="l" t="t" r="r" b="b"/>
                <a:pathLst>
                  <a:path w="424" h="603">
                    <a:moveTo>
                      <a:pt x="0" y="0"/>
                    </a:moveTo>
                    <a:cubicBezTo>
                      <a:pt x="423" y="215"/>
                      <a:pt x="358" y="602"/>
                      <a:pt x="358" y="60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63600" y="2755800"/>
                <a:ext cx="6858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2320" y="2216160"/>
                <a:ext cx="6858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1720" y="2476440"/>
                <a:ext cx="6858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35000" y="1684440"/>
                <a:ext cx="6858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7840" y="3092400"/>
                <a:ext cx="2752560" cy="180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09200" y="2587680"/>
                <a:ext cx="11811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889280" y="1449360"/>
                <a:ext cx="709560" cy="11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22160" y="1271160"/>
                <a:ext cx="1800" cy="194796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85880" y="1405080"/>
                <a:ext cx="60480" cy="60120"/>
              </a:xfrm>
              <a:prstGeom prst="ellipse">
                <a:avLst/>
              </a:prstGeom>
              <a:solidFill>
                <a:srgbClr val="b84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49280" y="4156200"/>
            <a:ext cx="2981160" cy="2050560"/>
            <a:chOff x="449280" y="4156200"/>
            <a:chExt cx="2981160" cy="2050560"/>
          </a:xfrm>
        </p:grpSpPr>
        <p:sp>
          <p:nvSpPr>
            <p:cNvPr id="102" name=""/>
            <p:cNvSpPr/>
            <p:nvPr/>
          </p:nvSpPr>
          <p:spPr>
            <a:xfrm>
              <a:off x="1166760" y="5873760"/>
              <a:ext cx="74520" cy="222120"/>
            </a:xfrm>
            <a:custGeom>
              <a:avLst/>
              <a:gdLst/>
              <a:ahLst/>
              <a:rect l="l" t="t" r="r" b="b"/>
              <a:pathLst>
                <a:path w="206" h="618">
                  <a:moveTo>
                    <a:pt x="0" y="0"/>
                  </a:moveTo>
                  <a:cubicBezTo>
                    <a:pt x="205" y="289"/>
                    <a:pt x="165" y="617"/>
                    <a:pt x="165" y="6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9280" y="5575320"/>
              <a:ext cx="1004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5357880"/>
              <a:ext cx="152280" cy="217440"/>
            </a:xfrm>
            <a:custGeom>
              <a:avLst/>
              <a:gdLst/>
              <a:ahLst/>
              <a:rect l="l" t="t" r="r" b="b"/>
              <a:pathLst>
                <a:path w="424" h="603">
                  <a:moveTo>
                    <a:pt x="0" y="0"/>
                  </a:moveTo>
                  <a:cubicBezTo>
                    <a:pt x="423" y="215"/>
                    <a:pt x="358" y="602"/>
                    <a:pt x="358" y="6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92320" y="574344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GB" sz="1800" spc="-1" strike="noStrike" baseline="33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2320" y="520380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1800" spc="-1" strike="noStrike" baseline="33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280" y="6080040"/>
              <a:ext cx="2752560" cy="1800"/>
            </a:xfrm>
            <a:prstGeom prst="line">
              <a:avLst/>
            </a:prstGeom>
            <a:ln w="36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09200" y="5575320"/>
              <a:ext cx="118116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889280" y="4437000"/>
              <a:ext cx="709560" cy="11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22160" y="4258800"/>
              <a:ext cx="1800" cy="1947960"/>
            </a:xfrm>
            <a:prstGeom prst="line">
              <a:avLst/>
            </a:prstGeom>
            <a:ln w="36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87680" y="4392720"/>
              <a:ext cx="60120" cy="60120"/>
            </a:xfrm>
            <a:prstGeom prst="ellipse">
              <a:avLst/>
            </a:prstGeom>
            <a:solidFill>
              <a:srgbClr val="b84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324080" y="4435560"/>
              <a:ext cx="1276200" cy="64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22160" y="5075280"/>
              <a:ext cx="601920" cy="100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22160" y="4420800"/>
              <a:ext cx="1895760" cy="166068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2920" y="510696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15960" y="4979880"/>
              <a:ext cx="69840" cy="127080"/>
            </a:xfrm>
            <a:custGeom>
              <a:avLst/>
              <a:gdLst/>
              <a:ahLst/>
              <a:rect l="l" t="t" r="r" b="b"/>
              <a:pathLst>
                <a:path w="195" h="354">
                  <a:moveTo>
                    <a:pt x="0" y="0"/>
                  </a:moveTo>
                  <a:cubicBezTo>
                    <a:pt x="194" y="126"/>
                    <a:pt x="164" y="353"/>
                    <a:pt x="164" y="3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5960" y="4775040"/>
              <a:ext cx="5414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1800" spc="-1" strike="noStrike" baseline="33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1960" y="5892840"/>
              <a:ext cx="131760" cy="204840"/>
            </a:xfrm>
            <a:custGeom>
              <a:avLst/>
              <a:gdLst/>
              <a:ahLst/>
              <a:rect l="l" t="t" r="r" b="b"/>
              <a:pathLst>
                <a:path w="368" h="568">
                  <a:moveTo>
                    <a:pt x="0" y="0"/>
                  </a:moveTo>
                  <a:cubicBezTo>
                    <a:pt x="367" y="265"/>
                    <a:pt x="296" y="567"/>
                    <a:pt x="296" y="5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7040" y="5707080"/>
              <a:ext cx="539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GB" sz="1800" spc="-1" strike="noStrike" baseline="33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4156200"/>
              <a:ext cx="830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x, y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3265560"/>
            <a:ext cx="594360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verse Kinema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– 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+ 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+ 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– 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tan2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48520" y="6615000"/>
            <a:ext cx="2860560" cy="820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ails of the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an2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2286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 and Inverse Kinematics in more complex manipulators in 3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0" y="1212840"/>
            <a:ext cx="5489640" cy="2759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4286160"/>
            <a:ext cx="86868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ward Kinematics [given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i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q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ly done by making use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onential coordinat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mogeneous transformation matri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834160"/>
            <a:ext cx="86868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erse Kinematics [give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ly 2 possi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ly done by making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TI10"/>
              </a:rPr>
              <a:t>Paden Kahan Subproblems"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CMTI10"/>
                <a:ea typeface="CMTI10"/>
              </a:rPr>
              <a:t>  [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CMTI10"/>
              </a:rPr>
              <a:t>Further reading:</a:t>
            </a:r>
            <a:r>
              <a:rPr b="0" i="1" lang="en-GB" sz="1800" spc="-1" strike="noStrike">
                <a:solidFill>
                  <a:srgbClr val="000000"/>
                </a:solidFill>
                <a:latin typeface="CMTI10"/>
                <a:ea typeface="CMTI10"/>
              </a:rPr>
              <a:t> Richard M. Murray, Zexiang Li, S. Shankar Sastry,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CMTI10"/>
                <a:ea typeface="CMTI10"/>
              </a:rPr>
              <a:t>   A Mathematical Introduction to Robotic Manipulation, CRC Press LLC (1994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071720"/>
            <a:ext cx="41148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Leg of the Littledog Robo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 degrees of freed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 independent joi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ip RX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ip RY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Knee R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nd effect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foot) can reach poin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,y,z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limited region of the 3D space called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orkspa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l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5572080"/>
            <a:ext cx="2815920" cy="10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b84700"/>
                </a:solidFill>
                <a:latin typeface="Arial"/>
              </a:rPr>
              <a:t>PK subproblems 1, 2 &amp;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33"/>
                </a:solidFill>
                <a:latin typeface="Arial"/>
              </a:rPr>
              <a:t>Solving FK and IK for the littledog's l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457200"/>
            <a:ext cx="73152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chieving desired joint angles – the PD controlled servo mo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0400" y="5702400"/>
            <a:ext cx="7772400" cy="1272960"/>
            <a:chOff x="590400" y="5702400"/>
            <a:chExt cx="7772400" cy="1272960"/>
          </a:xfrm>
        </p:grpSpPr>
        <p:sp>
          <p:nvSpPr>
            <p:cNvPr id="131" name=""/>
            <p:cNvSpPr/>
            <p:nvPr/>
          </p:nvSpPr>
          <p:spPr>
            <a:xfrm>
              <a:off x="590400" y="5702400"/>
              <a:ext cx="777240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o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en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 = 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 = 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chieved,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comes zero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se the torque is such that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iven towards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driven towards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79800" y="6049800"/>
              <a:ext cx="2052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76520" y="6049800"/>
              <a:ext cx="2088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3440" y="6626160"/>
              <a:ext cx="2052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3800" y="6626160"/>
              <a:ext cx="2088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41200" y="1600200"/>
            <a:ext cx="9414000" cy="3541680"/>
            <a:chOff x="241200" y="1600200"/>
            <a:chExt cx="9414000" cy="35416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618080" y="1600200"/>
              <a:ext cx="19051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52800" y="1887480"/>
              <a:ext cx="1600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(current)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70160" y="2249640"/>
              <a:ext cx="14493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1800" y="426564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200" y="3724200"/>
              <a:ext cx="2286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 of desi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</a:t>
              </a:r>
              <a:r>
                <a:rPr b="0" i="1" lang="en-GB" sz="16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θ</a:t>
              </a:r>
              <a:r>
                <a:rPr b="0" i="1" lang="en-GB" sz="16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99744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8080" y="1928880"/>
              <a:ext cx="325440" cy="322200"/>
            </a:xfrm>
            <a:custGeom>
              <a:avLst/>
              <a:gdLst/>
              <a:ahLst/>
              <a:rect l="l" t="t" r="r" b="b"/>
              <a:pathLst>
                <a:path w="904" h="895">
                  <a:moveTo>
                    <a:pt x="0" y="894"/>
                  </a:moveTo>
                  <a:cubicBezTo>
                    <a:pt x="349" y="98"/>
                    <a:pt x="903" y="0"/>
                    <a:pt x="90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3200" y="2286000"/>
              <a:ext cx="8380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0" y="1996920"/>
              <a:ext cx="2286000" cy="5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ading from sens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θ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70200" y="3657600"/>
              <a:ext cx="27432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89680" y="2289240"/>
              <a:ext cx="504720" cy="291960"/>
            </a:xfrm>
            <a:custGeom>
              <a:avLst/>
              <a:gdLst/>
              <a:ahLst/>
              <a:rect l="l" t="t" r="r" b="b"/>
              <a:pathLst>
                <a:path w="1404" h="812">
                  <a:moveTo>
                    <a:pt x="0" y="627"/>
                  </a:moveTo>
                  <a:cubicBezTo>
                    <a:pt x="891" y="811"/>
                    <a:pt x="1403" y="0"/>
                    <a:pt x="140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80520" y="227016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5240" y="3478320"/>
              <a:ext cx="3429000" cy="166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ontroller:</a:t>
              </a:r>
              <a:br>
                <a:rPr sz="1800"/>
              </a:b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uting torque:</a:t>
              </a:r>
              <a:br>
                <a:rPr sz="18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i="1" lang="en-GB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θ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k</a:t>
              </a:r>
              <a:r>
                <a:rPr b="1" i="1" lang="en-GB" sz="20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θ</a:t>
              </a:r>
              <a:r>
                <a:rPr b="1" i="1" lang="en-GB" sz="2000" spc="-1" strike="noStrike" baseline="33000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θ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br>
                <a:rPr sz="2000"/>
              </a:b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it into current valu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0160" y="2249640"/>
              <a:ext cx="1800" cy="113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54760" y="4343400"/>
              <a:ext cx="20606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3600" y="2544840"/>
              <a:ext cx="1800" cy="1798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35440" y="4141800"/>
              <a:ext cx="2088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4520" y="414180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100320" y="3382560"/>
              <a:ext cx="69840" cy="9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168720" y="3382560"/>
              <a:ext cx="69840" cy="9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221600" y="5967360"/>
            <a:ext cx="2795400" cy="1521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ilosophy behind feedback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b84700"/>
                </a:solidFill>
                <a:latin typeface="Arial"/>
              </a:rPr>
              <a:t>Linear systems introduction – gains in linear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8640" y="299880"/>
            <a:ext cx="8229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ics of a quadruped r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8480" y="1238400"/>
            <a:ext cx="5029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iangle of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92880" y="2033640"/>
            <a:ext cx="2938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vie of old controller making the dog walk on a rough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75640" y="4218120"/>
            <a:ext cx="2960640" cy="311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43040" y="5262480"/>
            <a:ext cx="5473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 unknown forc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equations of static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ce indeterminate syst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3520" y="6656400"/>
            <a:ext cx="3517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- What are the forces then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BB)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2680" y="1968120"/>
            <a:ext cx="5373720" cy="2589480"/>
            <a:chOff x="112680" y="1968120"/>
            <a:chExt cx="5373720" cy="2589480"/>
          </a:xfrm>
        </p:grpSpPr>
        <p:grpSp>
          <p:nvGrpSpPr>
            <p:cNvPr id="165" name=""/>
            <p:cNvGrpSpPr/>
            <p:nvPr/>
          </p:nvGrpSpPr>
          <p:grpSpPr>
            <a:xfrm>
              <a:off x="831600" y="1968120"/>
              <a:ext cx="3408480" cy="2589480"/>
              <a:chOff x="831600" y="1968120"/>
              <a:chExt cx="3408480" cy="258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977760" y="3657600"/>
                <a:ext cx="3262320" cy="411120"/>
              </a:xfrm>
              <a:custGeom>
                <a:avLst/>
                <a:gdLst/>
                <a:ahLst/>
                <a:rect l="l" t="t" r="r" b="b"/>
                <a:pathLst>
                  <a:path w="9060" h="1142">
                    <a:moveTo>
                      <a:pt x="0" y="0"/>
                    </a:moveTo>
                    <a:lnTo>
                      <a:pt x="9059" y="0"/>
                    </a:lnTo>
                    <a:lnTo>
                      <a:pt x="6041" y="1141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84200" y="205740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384200" y="205560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1382400" y="2840040"/>
                <a:ext cx="1832040" cy="4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13000" y="2514600"/>
                <a:ext cx="1800" cy="79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1384200" y="1968120"/>
                <a:ext cx="80496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3213000" y="2355480"/>
                <a:ext cx="606600" cy="16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89160" y="1969920"/>
                <a:ext cx="163044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213000" y="3114360"/>
                <a:ext cx="60660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19600" y="2357280"/>
                <a:ext cx="1440" cy="75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25400" y="2841480"/>
                <a:ext cx="245880" cy="58752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525760" y="3427200"/>
                <a:ext cx="689040" cy="68868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0200" y="3200400"/>
                <a:ext cx="569880" cy="54468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622160" y="2513160"/>
                <a:ext cx="220680" cy="58896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976320" y="3100320"/>
                <a:ext cx="866880" cy="55728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831600" y="2176200"/>
                <a:ext cx="554040" cy="245880"/>
              </a:xfrm>
              <a:prstGeom prst="line">
                <a:avLst/>
              </a:prstGeom>
              <a:ln w="36720">
                <a:solidFill>
                  <a:srgbClr val="000000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82840" y="2679840"/>
                <a:ext cx="1440" cy="419040"/>
              </a:xfrm>
              <a:prstGeom prst="line">
                <a:avLst/>
              </a:prstGeom>
              <a:ln w="18360">
                <a:solidFill>
                  <a:srgbClr val="94476b"/>
                </a:solidFill>
                <a:prstDash val="sysDot"/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382840" y="3098520"/>
                <a:ext cx="1440" cy="664920"/>
              </a:xfrm>
              <a:prstGeom prst="line">
                <a:avLst/>
              </a:prstGeom>
              <a:ln w="18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82840" y="3762360"/>
                <a:ext cx="1440" cy="165240"/>
              </a:xfrm>
              <a:prstGeom prst="line">
                <a:avLst/>
              </a:prstGeom>
              <a:ln w="18360">
                <a:solidFill>
                  <a:srgbClr val="9966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82840" y="3927600"/>
                <a:ext cx="1440" cy="630000"/>
              </a:xfrm>
              <a:prstGeom prst="line">
                <a:avLst/>
              </a:prstGeom>
              <a:ln w="1836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55840" y="2216160"/>
                <a:ext cx="152280" cy="177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92200" y="2284560"/>
                <a:ext cx="6840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84200" y="2646360"/>
                <a:ext cx="189000" cy="81000"/>
              </a:xfrm>
              <a:custGeom>
                <a:avLst/>
                <a:gdLst/>
                <a:ahLst/>
                <a:rect l="l" t="t" r="r" b="b"/>
                <a:pathLst>
                  <a:path w="523" h="226">
                    <a:moveTo>
                      <a:pt x="0" y="72"/>
                    </a:moveTo>
                    <a:cubicBezTo>
                      <a:pt x="266" y="63"/>
                      <a:pt x="522" y="0"/>
                      <a:pt x="522" y="0"/>
                    </a:cubicBezTo>
                    <a:cubicBezTo>
                      <a:pt x="522" y="0"/>
                      <a:pt x="266" y="180"/>
                      <a:pt x="266" y="180"/>
                    </a:cubicBezTo>
                    <a:cubicBezTo>
                      <a:pt x="266" y="180"/>
                      <a:pt x="0" y="225"/>
                      <a:pt x="0" y="225"/>
                    </a:cubicBezTo>
                    <a:cubicBezTo>
                      <a:pt x="0" y="225"/>
                      <a:pt x="0" y="225"/>
                      <a:pt x="0" y="72"/>
                    </a:cubicBezTo>
                  </a:path>
                </a:pathLst>
              </a:custGeom>
              <a:solidFill>
                <a:srgbClr val="eb613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165560" y="3657600"/>
              <a:ext cx="13208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680" y="3657600"/>
              <a:ext cx="909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41760" y="3111480"/>
            <a:ext cx="243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ke moment of forces about this 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152880" y="3427560"/>
            <a:ext cx="1440" cy="64296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6616800"/>
            <a:ext cx="2795400" cy="820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g compli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33"/>
                </a:solidFill>
                <a:latin typeface="Arial"/>
              </a:rPr>
              <a:t>Helicoidal vecto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